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EF2C-29E6-4146-A27D-0F64A25AE7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A06D-6CB8-40A5-97C6-159B1CCA8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5214-9FEF-4CF0-AD62-4D4940719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94A2-CF2D-4815-93F0-76BF6D65E5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E38B-1879-4668-B364-40A0D2F95F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E0BF-5F58-4EC2-973F-73FFF002AB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6CCB-4365-4887-91AE-277EE0DBB7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76B5-969C-47CB-8D89-51DC1288D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A3A4-BED9-4ABA-98EF-66E40937A4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C5CB-FDC0-4DC4-9EA2-4F2EF9C049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2C68-59C8-4166-81F1-119F575D8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6317-7066-4622-B65A-8E740FB845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08CA-BC71-48CD-B306-74DB310EC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1F5-E904-4C29-884B-30E70096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EB9-25FC-4206-A5E5-D06BBD01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AB5-20B1-4A33-9E96-24CDE13B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5AD-1FC9-42CB-9D75-9EEB22F2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7722-62E2-4D91-8DCC-8168BFC6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2E81-131D-4315-8F6A-4DE1809D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487B-B6C6-4567-B874-3BF6632E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41C3-5C42-41DB-93D3-F4F3961B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3FDA-372C-4B60-98DC-5BCA09E4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57F3-4C23-40BF-A14B-58F37FE2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D95F-5D92-482B-9883-D8E7FFC2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BC0-024B-49AC-BEDB-9971C8BA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0044-9283-483F-BB64-65C58B1E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499C-ED4F-4339-A023-79F943AA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9C14-6566-4D10-BA62-E81641DA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58CD-FF2C-4258-9D3C-BB5E4448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C849-DAC7-4511-B0F8-30FFD230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E7A4C-C904-46EA-BB3B-CE542D3B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031F2-0322-4B40-B225-C64855BB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26132-C9B8-4677-BF09-D7B75F38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6263-966E-49F1-8DF4-54D08762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E7C60-AAFA-40BD-9446-0DB9AC36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7A5-9DCB-42F8-97FE-06E4F725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93BDC-C25F-494A-9599-54A41071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DAEB-4CAC-4C15-BA4D-BD680306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F17A2-BDA9-4009-9A28-0A45ECE8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42D2-E736-49E0-9590-CEC5F1F5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2C33F-2ED0-40D9-BB71-A20195BC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2FA2-28AA-4497-A5E5-45E927CC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E4EAA-BB09-4156-A1C1-2B41374A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AD258-D75C-41AC-9615-2F0E030C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BA24-79E4-4E1E-A705-1E1B4BC8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3AAF3-E1BA-48D4-8650-968A4C32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F12-41C8-4818-ADB5-DAE59884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91371-AB06-4F1E-AAE6-54C0F6C9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E9C46-E95D-42FD-A898-F425677A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874E1-BD37-4633-A65F-6C9537AD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3E6DA-922A-480D-9677-A4128863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0ADFD-0F02-4082-92E9-D8F6F61F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93E0E-BA58-43E6-AD94-86F7B2AF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5D5CE-E587-4842-8F26-FB99C50B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5C723-2A93-41E5-86E6-AA64F951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748ED-D725-4C44-BCD4-908605FB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420-193A-40C2-8800-E3BFB074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66E-EC43-4963-82EB-56F09DCB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844-AE35-4D0B-9B57-43D01C30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E36-C43C-441F-938A-BA1BB346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7DE-89C4-4D79-8E3E-204B801B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154C-C7F3-496E-964D-3FD5DADBB47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5D41-CDA1-4E39-9F07-7F4F2EE58147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67DB-B2FD-4879-8435-2D9475ED1A5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654D-A079-470B-A13F-7600FAD9ADA9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BE46-045D-4780-B416-FB38471DEAF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FD34-32BE-4F69-96EB-D618A2EF42F8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CA47-89C3-4D41-AF8B-9B15BCEB385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C53A-F2BC-4261-97A9-28BFA7A60588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b3d9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оль миссии и целей в стратегическом управ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125360"/>
          <a:ext cx="8072640" cy="5187960"/>
        </p:xfrm>
        <a:graphic>
          <a:graphicData uri="http://schemas.openxmlformats.org/drawingml/2006/table">
            <a:tbl>
              <a:tblPr/>
              <a:tblGrid>
                <a:gridCol w="2695680"/>
                <a:gridCol w="5376960"/>
              </a:tblGrid>
              <a:tr h="40356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выражены движением денежной наличности, структурой капитала, выпуском ценных бумаг, оборотным капиталом, выплатой дивиден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описать с помощью таких показателей, как: производственные мощности, постоянные затраты, единицы продукции в натуральном и денежном выраж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9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(проце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изменения в структуре или деятель­ности, может выражаться любым количеством ц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9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могут определять выполнение трудовых функций и отношение к работе, профессиональ­ное обучение, способы мотивации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целями в форме видов деятельности, ориентированных на участие в ре­шении острых социальных проблем (экология, безработ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Дерево целей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pSp>
        <p:nvGrpSpPr>
          <p:cNvPr id="251" name="Group 1"/>
          <p:cNvGrpSpPr/>
          <p:nvPr/>
        </p:nvGrpSpPr>
        <p:grpSpPr>
          <a:xfrm>
            <a:off x="428760" y="2071800"/>
            <a:ext cx="8286120" cy="3142800"/>
            <a:chOff x="428760" y="2071800"/>
            <a:chExt cx="8286120" cy="3142800"/>
          </a:xfrm>
        </p:grpSpPr>
        <p:grpSp>
          <p:nvGrpSpPr>
            <p:cNvPr id="252" name="Group 2"/>
            <p:cNvGrpSpPr/>
            <p:nvPr/>
          </p:nvGrpSpPr>
          <p:grpSpPr>
            <a:xfrm>
              <a:off x="428760" y="2071800"/>
              <a:ext cx="8286120" cy="3142800"/>
              <a:chOff x="428760" y="2071800"/>
              <a:chExt cx="8286120" cy="3142800"/>
            </a:xfrm>
          </p:grpSpPr>
          <p:sp>
            <p:nvSpPr>
              <p:cNvPr id="253" name="Oval 3"/>
              <p:cNvSpPr/>
              <p:nvPr/>
            </p:nvSpPr>
            <p:spPr>
              <a:xfrm>
                <a:off x="2883960" y="2071800"/>
                <a:ext cx="337608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Общая цель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"/>
              <p:cNvSpPr/>
              <p:nvPr/>
            </p:nvSpPr>
            <p:spPr>
              <a:xfrm flipH="1">
                <a:off x="18097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"/>
              <p:cNvSpPr/>
              <p:nvPr/>
            </p:nvSpPr>
            <p:spPr>
              <a:xfrm flipH="1">
                <a:off x="3651120" y="2811240"/>
                <a:ext cx="15336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6"/>
              <p:cNvSpPr/>
              <p:nvPr/>
            </p:nvSpPr>
            <p:spPr>
              <a:xfrm>
                <a:off x="5339160" y="2811240"/>
                <a:ext cx="30672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61063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8"/>
              <p:cNvSpPr/>
              <p:nvPr/>
            </p:nvSpPr>
            <p:spPr>
              <a:xfrm>
                <a:off x="2286360" y="3000240"/>
                <a:ext cx="4910400" cy="36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Ключевые цели по подсистемам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9"/>
              <p:cNvGrpSpPr/>
              <p:nvPr/>
            </p:nvGrpSpPr>
            <p:grpSpPr>
              <a:xfrm>
                <a:off x="428760" y="4105800"/>
                <a:ext cx="1688040" cy="1108800"/>
                <a:chOff x="428760" y="4105800"/>
                <a:chExt cx="1688040" cy="1108800"/>
              </a:xfrm>
            </p:grpSpPr>
            <p:sp>
              <p:nvSpPr>
                <p:cNvPr id="260" name="Oval 10"/>
                <p:cNvSpPr/>
                <p:nvPr/>
              </p:nvSpPr>
              <p:spPr>
                <a:xfrm>
                  <a:off x="4287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1"/>
                <p:cNvSpPr/>
                <p:nvPr/>
              </p:nvSpPr>
              <p:spPr>
                <a:xfrm>
                  <a:off x="10425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2"/>
                <p:cNvSpPr/>
                <p:nvPr/>
              </p:nvSpPr>
              <p:spPr>
                <a:xfrm>
                  <a:off x="16563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13"/>
                <p:cNvSpPr/>
                <p:nvPr/>
              </p:nvSpPr>
              <p:spPr>
                <a:xfrm flipH="1">
                  <a:off x="58212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4"/>
                <p:cNvSpPr/>
                <p:nvPr/>
              </p:nvSpPr>
              <p:spPr>
                <a:xfrm>
                  <a:off x="119592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5"/>
                <p:cNvSpPr/>
                <p:nvPr/>
              </p:nvSpPr>
              <p:spPr>
                <a:xfrm>
                  <a:off x="16563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Oval 16"/>
              <p:cNvSpPr/>
              <p:nvPr/>
            </p:nvSpPr>
            <p:spPr>
              <a:xfrm>
                <a:off x="42876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роизводств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Group 17"/>
              <p:cNvGrpSpPr/>
              <p:nvPr/>
            </p:nvGrpSpPr>
            <p:grpSpPr>
              <a:xfrm>
                <a:off x="2576880" y="4105800"/>
                <a:ext cx="1687320" cy="1108800"/>
                <a:chOff x="2576880" y="4105800"/>
                <a:chExt cx="1687320" cy="1108800"/>
              </a:xfrm>
            </p:grpSpPr>
            <p:sp>
              <p:nvSpPr>
                <p:cNvPr id="268" name="Oval 18"/>
                <p:cNvSpPr/>
                <p:nvPr/>
              </p:nvSpPr>
              <p:spPr>
                <a:xfrm>
                  <a:off x="257688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9"/>
                <p:cNvSpPr/>
                <p:nvPr/>
              </p:nvSpPr>
              <p:spPr>
                <a:xfrm>
                  <a:off x="31903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0"/>
                <p:cNvSpPr/>
                <p:nvPr/>
              </p:nvSpPr>
              <p:spPr>
                <a:xfrm>
                  <a:off x="38041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21"/>
                <p:cNvSpPr/>
                <p:nvPr/>
              </p:nvSpPr>
              <p:spPr>
                <a:xfrm flipH="1">
                  <a:off x="273024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22"/>
                <p:cNvSpPr/>
                <p:nvPr/>
              </p:nvSpPr>
              <p:spPr>
                <a:xfrm>
                  <a:off x="334404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3"/>
                <p:cNvSpPr/>
                <p:nvPr/>
              </p:nvSpPr>
              <p:spPr>
                <a:xfrm>
                  <a:off x="380412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Oval 24"/>
              <p:cNvSpPr/>
              <p:nvPr/>
            </p:nvSpPr>
            <p:spPr>
              <a:xfrm>
                <a:off x="24235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Маркетин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Group 25"/>
              <p:cNvGrpSpPr/>
              <p:nvPr/>
            </p:nvGrpSpPr>
            <p:grpSpPr>
              <a:xfrm>
                <a:off x="4878720" y="4105800"/>
                <a:ext cx="1687320" cy="1108800"/>
                <a:chOff x="4878720" y="4105800"/>
                <a:chExt cx="1687320" cy="1108800"/>
              </a:xfrm>
            </p:grpSpPr>
            <p:sp>
              <p:nvSpPr>
                <p:cNvPr id="276" name="Oval 26"/>
                <p:cNvSpPr/>
                <p:nvPr/>
              </p:nvSpPr>
              <p:spPr>
                <a:xfrm>
                  <a:off x="48787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"/>
                <p:cNvSpPr/>
                <p:nvPr/>
              </p:nvSpPr>
              <p:spPr>
                <a:xfrm>
                  <a:off x="54921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"/>
                <p:cNvSpPr/>
                <p:nvPr/>
              </p:nvSpPr>
              <p:spPr>
                <a:xfrm>
                  <a:off x="61059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29"/>
                <p:cNvSpPr/>
                <p:nvPr/>
              </p:nvSpPr>
              <p:spPr>
                <a:xfrm flipH="1">
                  <a:off x="503208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30"/>
                <p:cNvSpPr/>
                <p:nvPr/>
              </p:nvSpPr>
              <p:spPr>
                <a:xfrm>
                  <a:off x="564588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31"/>
                <p:cNvSpPr/>
                <p:nvPr/>
              </p:nvSpPr>
              <p:spPr>
                <a:xfrm>
                  <a:off x="61059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32"/>
              <p:cNvGrpSpPr/>
              <p:nvPr/>
            </p:nvGrpSpPr>
            <p:grpSpPr>
              <a:xfrm>
                <a:off x="7027200" y="4105800"/>
                <a:ext cx="1687320" cy="1108800"/>
                <a:chOff x="7027200" y="4105800"/>
                <a:chExt cx="1687320" cy="1108800"/>
              </a:xfrm>
            </p:grpSpPr>
            <p:sp>
              <p:nvSpPr>
                <p:cNvPr id="283" name="Oval 33"/>
                <p:cNvSpPr/>
                <p:nvPr/>
              </p:nvSpPr>
              <p:spPr>
                <a:xfrm>
                  <a:off x="702720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34"/>
                <p:cNvSpPr/>
                <p:nvPr/>
              </p:nvSpPr>
              <p:spPr>
                <a:xfrm>
                  <a:off x="76406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35"/>
                <p:cNvSpPr/>
                <p:nvPr/>
              </p:nvSpPr>
              <p:spPr>
                <a:xfrm>
                  <a:off x="82544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36"/>
                <p:cNvSpPr/>
                <p:nvPr/>
              </p:nvSpPr>
              <p:spPr>
                <a:xfrm flipH="1">
                  <a:off x="718056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37"/>
                <p:cNvSpPr/>
                <p:nvPr/>
              </p:nvSpPr>
              <p:spPr>
                <a:xfrm>
                  <a:off x="779436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38"/>
                <p:cNvSpPr/>
                <p:nvPr/>
              </p:nvSpPr>
              <p:spPr>
                <a:xfrm>
                  <a:off x="825444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Oval 39"/>
              <p:cNvSpPr/>
              <p:nvPr/>
            </p:nvSpPr>
            <p:spPr>
              <a:xfrm>
                <a:off x="67201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Финанс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40"/>
              <p:cNvSpPr/>
              <p:nvPr/>
            </p:nvSpPr>
            <p:spPr>
              <a:xfrm>
                <a:off x="457200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ерсона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41"/>
            <p:cNvSpPr/>
            <p:nvPr/>
          </p:nvSpPr>
          <p:spPr>
            <a:xfrm>
              <a:off x="714240" y="4290480"/>
              <a:ext cx="76435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дцели по подсистемам 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Правила декомпози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ая цель должна содержать описание конечного результа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развертывании общей цели в иерархическую структуру исходят из того, что реализация подцелей каждого последующего уровня является необходимым и достаточным условием достижения целей предыдуще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формулировке целей разных уровней необходимо описывать желаемые результаты, а не способы их полу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цели каждого уровня должны быть независимы друг от друга и невыводимы друг из друг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 дерева целей должны составлять задачи, представляющие собой формулировку работ, которые могут быть выполнены определенным способом в установленные сро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3548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Видение организации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— это образное представление смысла деятельности и перспектив (будущего) организации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Видени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ъясняет и демонстрирует всем сотрудникам и общественност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представляет собой организац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ой она должна ста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 чему она стремит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Мисс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одним из главных элементов идеологической базы формирова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 должна зависеть от текущего состоя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ажает устремленность в будущ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комплексной цель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грает значительную роль как во внутренней, так и во внешней сред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одходы к формированию мисс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широки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зк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Формулировка миссии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содержа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сферы 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бочие принципы фирмы по отношению к окружающей сред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ценности внутри фирмы, рассматриваемые как культура организ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Заинтересованные группы в формулировке миссии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00040" y="1571760"/>
          <a:ext cx="8286840" cy="5073480"/>
        </p:xfrm>
        <a:graphic>
          <a:graphicData uri="http://schemas.openxmlformats.org/drawingml/2006/table">
            <a:tbl>
              <a:tblPr/>
              <a:tblGrid>
                <a:gridCol w="2170080"/>
                <a:gridCol w="6116760"/>
              </a:tblGrid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является клиентами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/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товары/услуги предлагают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фирма ведет конкурентную борьб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базовая технология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выж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 экономическую цель преследует фирм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базовые убеждения, ценности и приоритетные устремл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ый об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акому имиджу стремится фирма и какую ответственность перед обществом она приним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позиция фирмы по отношению к своему персонал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 с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заявляемые отличительные каче­ства и конкурентные преимуществ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Определение цели -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760" y="1999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более конкретный, чем миссия, уровень принятия решений, требующий выработки соответствующих стратегических задач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ледует различать цел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пецифическ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роцесс постановки целей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основном происходит сверху вни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ждый руководитель должен иметь четкие цели, которые обеспечивают поддержку целей более высоко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процессе выработки целей, необходим двусторонний обмен информаци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Эффективность целей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- это базовый критерий стратегического целеполаган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Цели должны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ретными и измеримы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иентированными во времен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алистичны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поставимыми и взаимно поддерживающи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960" y="1571760"/>
          <a:ext cx="8072280" cy="5227560"/>
        </p:xfrm>
        <a:graphic>
          <a:graphicData uri="http://schemas.openxmlformats.org/drawingml/2006/table">
            <a:tbl>
              <a:tblPr/>
              <a:tblGrid>
                <a:gridCol w="2695680"/>
                <a:gridCol w="5376600"/>
              </a:tblGrid>
              <a:tr h="40320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12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выражаться в различных показателях, таких как объем прибыли, доход на инвестиро­ванный капитал, отношение прибыли к объему продаж (коэффициент чистой прибыли)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описываться следующими понятиями: доля рынка, объем продаж в денежном или натуральном выражении, рыночная (отраслевая) ни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отношением выхода к входу, а также в виде издержек на единицу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0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но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 новые способы ведения бизнеса (новые технологии и методы организации производства, внедрение на новые рынки и т. д.) и могут выражаться как в денежных, так и в дру­гих показат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показателей объема продаж или прибыль­ности по отношению к конкретному изделию (ассортименту изделий) цели могут быть связа­ны с выведением нового товара на рынок или снятия с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1:10:41Z</dcterms:created>
  <dc:creator>И.В.</dc:creator>
  <dc:description/>
  <dc:language>en-US</dc:language>
  <cp:lastModifiedBy>Толя</cp:lastModifiedBy>
  <dcterms:modified xsi:type="dcterms:W3CDTF">2014-12-01T07:03:41Z</dcterms:modified>
  <cp:revision>14</cp:revision>
  <dc:subject/>
  <dc:title>Тема6 - Роль миссии и целей организации в стратегическом управлении</dc:title>
</cp:coreProperties>
</file>